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B1C9-CC96-48AA-B8C4-BEB39F0D2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6B6A-916E-49C8-954D-D622A1C2A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3A7-5EE2-42A4-990B-412ACD4A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74D-C599-465B-B26A-4B42D84C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B83-1B35-4973-9DF8-19114596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3B3-46AE-4CBF-8FB9-DB621D0B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5DA-CA1F-40BC-B599-CAFB7EC7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996-2D5D-4EC2-BBD7-CB58F2CC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9F0-8E4D-4CCA-8C21-4788A4FE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1FF-9E7E-4160-904D-84E7407B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327-F171-458C-9B0B-A0DDD464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E35-53D7-42A0-87CA-8303E9D4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362-4A23-4CDB-893A-CD7DCDA6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236-21A2-45AC-97E3-E910216A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AC25-8D39-4DF5-9422-B2A83C43D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mie Med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amie Medin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amie Med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amie Med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e llamo es Jamie.  Yo vivo en Woodside, New York.  Tengo 14 años.  Tengo dos hermanos. Yo soy feliz!!! </a:t>
            </a:r>
            <a:r>
              <a:rPr b="0" lang="es-ES_tradnl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3:09Z</dcterms:modified>
  <cp:revision>101</cp:revision>
  <dc:subject/>
  <dc:title>Profile</dc:title>
</cp:coreProperties>
</file>